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5BCF-E5E4-4D15-A310-9FC040A3C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1DA4-280C-4311-856E-D143CBAB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52A1-3BEA-49E4-A668-7303C65EE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D673-E7F3-48CF-BFD0-428B8E2FB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07C6-D2D2-431F-9D3A-11A0FADB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42FD-871E-4A32-BC1D-34A0E93F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BFE5-44A1-45C9-B7FF-8BE22EDB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9557-D13E-4D62-9335-7C6DEA77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166E-1BA6-4E74-A55F-75061F6C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E6A2-84F9-409A-B38A-19E00E66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0440-8926-4638-A781-1AD1A1E3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A03E-7935-4341-81D8-8F99A9ED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8E93-D3F4-4C42-B437-F7AFCA5A8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762120" y="152280"/>
            <a:ext cx="7543800" cy="215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haracters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38080" y="23623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s ar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 story's 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09480" y="2819520"/>
            <a:ext cx="8153640" cy="3416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ng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ai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special qu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rect characteriz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the author tells us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direct characteriz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reveal in the story throug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earance, dialogue, private thoughts, their actions, and effects the character has on others in the 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609480" y="533520"/>
            <a:ext cx="8153640" cy="5816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peara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an Carlos stood tall and straight, his long hair blowing in the wind past his hard chin and cheekbones, and his deep, piercing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What can you conclude about Juan Carl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alogu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olutely not, Maria, you can’t go.” scolded her mo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don’t care what you say!” shouted Maria, “I’m going to the movies with Juan Carlos tonight and there isn’t anything you can do about it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What can you conclude about Mar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685800" y="152280"/>
            <a:ext cx="8153280" cy="637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ivate Though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waited by the theatre entrance. “What if Juan Carlos doesn’t come? Maybe he doesn’t love me after all.” she thought to her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What can you conclude about Mar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an Carlos lifted her off her feet and kissed her passionately for a long, long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What can you conclude about Juan Carlos</a:t>
            </a:r>
            <a:r>
              <a:rPr b="1" i="1" lang="en-CA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Effects on Ot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ventually all the other people in front of the movie theatre started to get uncomfor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What can you conclude about Juan Carlos and Maria</a:t>
            </a:r>
            <a:r>
              <a:rPr b="1" i="1" lang="en-CA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762120" y="152280"/>
            <a:ext cx="7543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haracters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838080" y="1828800"/>
            <a:ext cx="74678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s can 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2D - like a paper d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ou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3D like real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oc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fits our idea of a "type" (mad scientist, pirate, worrying mother, uptight businessm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1"/>
          <a:stretch/>
        </p:blipFill>
        <p:spPr>
          <a:xfrm>
            <a:off x="838080" y="4419720"/>
            <a:ext cx="1876680" cy="2438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2"/>
          <a:stretch/>
        </p:blipFill>
        <p:spPr>
          <a:xfrm>
            <a:off x="2895480" y="4572000"/>
            <a:ext cx="142884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"/>
          <p:cNvPicPr/>
          <p:nvPr/>
        </p:nvPicPr>
        <p:blipFill>
          <a:blip r:embed="rId3"/>
          <a:stretch/>
        </p:blipFill>
        <p:spPr>
          <a:xfrm>
            <a:off x="4495680" y="4648320"/>
            <a:ext cx="2000520" cy="187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4"/>
          <a:stretch/>
        </p:blipFill>
        <p:spPr>
          <a:xfrm>
            <a:off x="7010280" y="4648320"/>
            <a:ext cx="13525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228600" y="304920"/>
            <a:ext cx="8505720" cy="12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racter Interactions</a:t>
            </a:r>
            <a:endParaRPr b="0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80880" y="1600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The Protagonist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center of focus 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28600" y="19810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The Antagonist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 character usually against the protagonist or trying to keep them from being success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533520" y="2819520"/>
            <a:ext cx="807696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ubordinate characte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minor/lesser characters that add to the story but not the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28600" y="4191120"/>
            <a:ext cx="8458200" cy="157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s can 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change in an important way in the story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a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exactly the same at the end as at the begi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5:27:33Z</dcterms:created>
  <dc:creator>Cathy Carpenter</dc:creator>
  <dc:description/>
  <dc:language>en-US</dc:language>
  <cp:lastModifiedBy>Dan Olsen</cp:lastModifiedBy>
  <dcterms:modified xsi:type="dcterms:W3CDTF">2011-09-17T16:37:23Z</dcterms:modified>
  <cp:revision>11</cp:revision>
  <dc:subject/>
  <dc:title>Slide 1</dc:title>
</cp:coreProperties>
</file>